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AE7-E56A-480B-A736-1D4BC8281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55E3-E012-4CBA-BAA2-29D67AA06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0586-C216-4C30-B2D7-7BCFB7E52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960-B10C-4E3F-9927-5552659F0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0D5-96E9-481E-B61C-5267D3E7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355-6559-4AC2-AC46-6F3A41B8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EFE-ACE1-4DEC-8F86-F2F4DC3D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F2D-69BE-4673-A17B-58C6C3A3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681-3688-495D-95A0-AEC7AAC5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160-4576-4A80-92C4-564B52BE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F41-98CB-41F9-9E46-1B30DCA0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5A4-EDD3-45B5-A233-9FEB87A7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0E8-5CC6-4F6C-BCE7-90BAAF5D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91C-ACC0-417D-A716-975BC49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565-06C4-4303-A58B-198D03C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01A-E622-4A4B-B64B-C853325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0E61-2FEE-42FA-AAFC-C5F907DCA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88EF-3574-4A98-956D-8C9A6C0E0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zzle3"/>
          <p:cNvSpPr/>
          <p:nvPr/>
        </p:nvSpPr>
        <p:spPr>
          <a:xfrm>
            <a:off x="1143000" y="533520"/>
            <a:ext cx="6477120" cy="59436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zzle2"/>
          <p:cNvSpPr/>
          <p:nvPr/>
        </p:nvSpPr>
        <p:spPr>
          <a:xfrm>
            <a:off x="2720880" y="2832120"/>
            <a:ext cx="329904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zzle4"/>
          <p:cNvSpPr/>
          <p:nvPr/>
        </p:nvSpPr>
        <p:spPr>
          <a:xfrm>
            <a:off x="1444680" y="2803680"/>
            <a:ext cx="1989000" cy="306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zzle1"/>
          <p:cNvSpPr/>
          <p:nvPr/>
        </p:nvSpPr>
        <p:spPr>
          <a:xfrm>
            <a:off x="762120" y="1711440"/>
            <a:ext cx="3340080" cy="18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FF6-FCCC-4D93-A80E-C7DE747B8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uzzle4"/>
          <p:cNvSpPr/>
          <p:nvPr/>
        </p:nvSpPr>
        <p:spPr>
          <a:xfrm rot="16200000">
            <a:off x="1811160" y="-1047960"/>
            <a:ext cx="5521320" cy="9144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5D15-EC89-4116-8556-A0C2616A3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zzle2"/>
          <p:cNvSpPr/>
          <p:nvPr/>
        </p:nvSpPr>
        <p:spPr>
          <a:xfrm>
            <a:off x="228600" y="152280"/>
            <a:ext cx="8686800" cy="65264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uzzle4"/>
          <p:cNvSpPr/>
          <p:nvPr/>
        </p:nvSpPr>
        <p:spPr>
          <a:xfrm>
            <a:off x="5546880" y="363600"/>
            <a:ext cx="1850760" cy="3065400"/>
          </a:xfrm>
          <a:prstGeom prst="pi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4883040" y="1828800"/>
            <a:ext cx="4952880" cy="5181120"/>
            <a:chOff x="4883040" y="1828800"/>
            <a:chExt cx="4952880" cy="5181120"/>
          </a:xfrm>
        </p:grpSpPr>
        <p:sp>
          <p:nvSpPr>
            <p:cNvPr id="59" name="Puzzle3"/>
            <p:cNvSpPr/>
            <p:nvPr/>
          </p:nvSpPr>
          <p:spPr>
            <a:xfrm>
              <a:off x="7295040" y="1828800"/>
              <a:ext cx="1946520" cy="275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uzzle2"/>
            <p:cNvSpPr/>
            <p:nvPr/>
          </p:nvSpPr>
          <p:spPr>
            <a:xfrm>
              <a:off x="6728760" y="3834720"/>
              <a:ext cx="3107160" cy="250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Puzzle4"/>
            <p:cNvSpPr/>
            <p:nvPr/>
          </p:nvSpPr>
          <p:spPr>
            <a:xfrm>
              <a:off x="5526000" y="3803760"/>
              <a:ext cx="1873440" cy="3206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Puzzle1"/>
            <p:cNvSpPr/>
            <p:nvPr/>
          </p:nvSpPr>
          <p:spPr>
            <a:xfrm>
              <a:off x="4883040" y="2661840"/>
              <a:ext cx="3146040" cy="1911240"/>
            </a:xfrm>
            <a:prstGeom prst="pie">
              <a:avLst/>
            </a:prstGeom>
            <a:solidFill>
              <a:srgbClr val="33cc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uzzle3"/>
          <p:cNvSpPr/>
          <p:nvPr/>
        </p:nvSpPr>
        <p:spPr>
          <a:xfrm>
            <a:off x="3754440" y="1751040"/>
            <a:ext cx="1922400" cy="2631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uzzle2"/>
          <p:cNvSpPr/>
          <p:nvPr/>
        </p:nvSpPr>
        <p:spPr>
          <a:xfrm>
            <a:off x="3200400" y="3821040"/>
            <a:ext cx="3070080" cy="2398680"/>
          </a:xfrm>
          <a:prstGeom prst="pi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uzzle4"/>
          <p:cNvSpPr/>
          <p:nvPr/>
        </p:nvSpPr>
        <p:spPr>
          <a:xfrm>
            <a:off x="2006640" y="3639960"/>
            <a:ext cx="1851120" cy="306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zzle1"/>
          <p:cNvSpPr/>
          <p:nvPr/>
        </p:nvSpPr>
        <p:spPr>
          <a:xfrm>
            <a:off x="1371600" y="2548080"/>
            <a:ext cx="3108240" cy="18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zzle3"/>
          <p:cNvSpPr/>
          <p:nvPr/>
        </p:nvSpPr>
        <p:spPr>
          <a:xfrm>
            <a:off x="3754440" y="175104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2"/>
          <p:cNvSpPr/>
          <p:nvPr/>
        </p:nvSpPr>
        <p:spPr>
          <a:xfrm>
            <a:off x="3193920" y="3668760"/>
            <a:ext cx="307044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zzle4"/>
          <p:cNvSpPr/>
          <p:nvPr/>
        </p:nvSpPr>
        <p:spPr>
          <a:xfrm>
            <a:off x="2006640" y="3639960"/>
            <a:ext cx="1851120" cy="306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uzzle1"/>
          <p:cNvSpPr/>
          <p:nvPr/>
        </p:nvSpPr>
        <p:spPr>
          <a:xfrm>
            <a:off x="1378080" y="2700360"/>
            <a:ext cx="3108240" cy="1827360"/>
          </a:xfrm>
          <a:prstGeom prst="pie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1378080" y="-1523880"/>
            <a:ext cx="4892040" cy="4953960"/>
            <a:chOff x="1378080" y="-1523880"/>
            <a:chExt cx="4892040" cy="4953960"/>
          </a:xfrm>
        </p:grpSpPr>
        <p:sp>
          <p:nvSpPr>
            <p:cNvPr id="72" name="Puzzle3"/>
            <p:cNvSpPr/>
            <p:nvPr/>
          </p:nvSpPr>
          <p:spPr>
            <a:xfrm>
              <a:off x="3760560" y="-1523880"/>
              <a:ext cx="1922760" cy="2632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uzzle2"/>
            <p:cNvSpPr/>
            <p:nvPr/>
          </p:nvSpPr>
          <p:spPr>
            <a:xfrm>
              <a:off x="3201120" y="393840"/>
              <a:ext cx="3069000" cy="2397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uzzle4"/>
            <p:cNvSpPr/>
            <p:nvPr/>
          </p:nvSpPr>
          <p:spPr>
            <a:xfrm>
              <a:off x="2013120" y="364320"/>
              <a:ext cx="1850400" cy="3065760"/>
            </a:xfrm>
            <a:prstGeom prst="pie">
              <a:avLst/>
            </a:prstGeom>
            <a:solidFill>
              <a:srgbClr val="66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uzzle1"/>
            <p:cNvSpPr/>
            <p:nvPr/>
          </p:nvSpPr>
          <p:spPr>
            <a:xfrm>
              <a:off x="1378080" y="-727200"/>
              <a:ext cx="3107520" cy="1827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1378080" y="1903320"/>
            <a:ext cx="4892040" cy="4953960"/>
            <a:chOff x="1378080" y="1903320"/>
            <a:chExt cx="4892040" cy="4953960"/>
          </a:xfrm>
        </p:grpSpPr>
        <p:sp>
          <p:nvSpPr>
            <p:cNvPr id="77" name="Puzzle3"/>
            <p:cNvSpPr/>
            <p:nvPr/>
          </p:nvSpPr>
          <p:spPr>
            <a:xfrm>
              <a:off x="3760560" y="1903320"/>
              <a:ext cx="1922760" cy="2633040"/>
            </a:xfrm>
            <a:prstGeom prst="pi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urriculum Mapp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uzzle2"/>
            <p:cNvSpPr/>
            <p:nvPr/>
          </p:nvSpPr>
          <p:spPr>
            <a:xfrm>
              <a:off x="3201120" y="3821400"/>
              <a:ext cx="3069000" cy="2397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uzzle4"/>
            <p:cNvSpPr/>
            <p:nvPr/>
          </p:nvSpPr>
          <p:spPr>
            <a:xfrm>
              <a:off x="2013120" y="3791520"/>
              <a:ext cx="1850400" cy="3065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Puzzle1"/>
            <p:cNvSpPr/>
            <p:nvPr/>
          </p:nvSpPr>
          <p:spPr>
            <a:xfrm>
              <a:off x="1378080" y="2699640"/>
              <a:ext cx="3107520" cy="1827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uzzle3"/>
          <p:cNvSpPr/>
          <p:nvPr/>
        </p:nvSpPr>
        <p:spPr>
          <a:xfrm>
            <a:off x="3754440" y="-167652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uzzle2"/>
          <p:cNvSpPr/>
          <p:nvPr/>
        </p:nvSpPr>
        <p:spPr>
          <a:xfrm>
            <a:off x="3200400" y="393840"/>
            <a:ext cx="3070080" cy="2398680"/>
          </a:xfrm>
          <a:prstGeom prst="pie">
            <a:avLst/>
          </a:prstGeom>
          <a:solidFill>
            <a:srgbClr val="cc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uzzle1"/>
          <p:cNvSpPr/>
          <p:nvPr/>
        </p:nvSpPr>
        <p:spPr>
          <a:xfrm>
            <a:off x="1371600" y="-879480"/>
            <a:ext cx="3108240" cy="18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uzzle3"/>
          <p:cNvSpPr/>
          <p:nvPr/>
        </p:nvSpPr>
        <p:spPr>
          <a:xfrm>
            <a:off x="2901960" y="175248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uzzle2"/>
          <p:cNvSpPr/>
          <p:nvPr/>
        </p:nvSpPr>
        <p:spPr>
          <a:xfrm>
            <a:off x="3193920" y="3668760"/>
            <a:ext cx="307044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uzzle4"/>
          <p:cNvSpPr/>
          <p:nvPr/>
        </p:nvSpPr>
        <p:spPr>
          <a:xfrm>
            <a:off x="2013120" y="3792600"/>
            <a:ext cx="1850760" cy="3065400"/>
          </a:xfrm>
          <a:prstGeom prst="pi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uzzle1"/>
          <p:cNvSpPr/>
          <p:nvPr/>
        </p:nvSpPr>
        <p:spPr>
          <a:xfrm>
            <a:off x="1371600" y="2514600"/>
            <a:ext cx="3108240" cy="18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uzzle3"/>
          <p:cNvSpPr/>
          <p:nvPr/>
        </p:nvSpPr>
        <p:spPr>
          <a:xfrm>
            <a:off x="7319880" y="-167652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uzzle2"/>
          <p:cNvSpPr/>
          <p:nvPr/>
        </p:nvSpPr>
        <p:spPr>
          <a:xfrm>
            <a:off x="6759720" y="241200"/>
            <a:ext cx="307008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uzzle1"/>
          <p:cNvSpPr/>
          <p:nvPr/>
        </p:nvSpPr>
        <p:spPr>
          <a:xfrm>
            <a:off x="4952880" y="-1827360"/>
            <a:ext cx="3108600" cy="18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uzzle3"/>
          <p:cNvSpPr/>
          <p:nvPr/>
        </p:nvSpPr>
        <p:spPr>
          <a:xfrm>
            <a:off x="7319880" y="175104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zzle2"/>
          <p:cNvSpPr/>
          <p:nvPr/>
        </p:nvSpPr>
        <p:spPr>
          <a:xfrm>
            <a:off x="6759720" y="3668760"/>
            <a:ext cx="307008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zzle4"/>
          <p:cNvSpPr/>
          <p:nvPr/>
        </p:nvSpPr>
        <p:spPr>
          <a:xfrm>
            <a:off x="5572080" y="3639960"/>
            <a:ext cx="1851120" cy="3065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zzle3"/>
          <p:cNvSpPr/>
          <p:nvPr/>
        </p:nvSpPr>
        <p:spPr>
          <a:xfrm>
            <a:off x="7319880" y="1751040"/>
            <a:ext cx="1922400" cy="263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zzle2"/>
          <p:cNvSpPr/>
          <p:nvPr/>
        </p:nvSpPr>
        <p:spPr>
          <a:xfrm>
            <a:off x="6759720" y="3668760"/>
            <a:ext cx="3070080" cy="23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uzzle4"/>
          <p:cNvSpPr/>
          <p:nvPr/>
        </p:nvSpPr>
        <p:spPr>
          <a:xfrm>
            <a:off x="5546880" y="3792600"/>
            <a:ext cx="1850760" cy="3065400"/>
          </a:xfrm>
          <a:prstGeom prst="pi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uzzle1"/>
          <p:cNvSpPr/>
          <p:nvPr/>
        </p:nvSpPr>
        <p:spPr>
          <a:xfrm>
            <a:off x="4937040" y="2897280"/>
            <a:ext cx="3108240" cy="1827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1828800" y="0"/>
            <a:ext cx="601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king Conn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5:52:27Z</dcterms:created>
  <dc:creator>Ann Johnson</dc:creator>
  <dc:description/>
  <dc:language>en-US</dc:language>
  <cp:lastModifiedBy>Ann</cp:lastModifiedBy>
  <dcterms:modified xsi:type="dcterms:W3CDTF">2009-07-20T14:21:27Z</dcterms:modified>
  <cp:revision>2</cp:revision>
  <dc:subject/>
  <dc:title>Slide 1</dc:title>
</cp:coreProperties>
</file>